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8110-FAB3-4B99-9A33-7AE9C6AA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5A93E-2492-4F80-B779-E8A5D7D4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065E-2AAE-40F6-87F0-226D7D88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9059-E48C-4F86-B833-69067EC7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4048-0C97-42F8-B036-3F549956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9BCA-85FB-434C-AA24-97F11715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B4E1-80A2-4F98-9E33-13E74104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E7BC-1FFC-4245-92AB-185ED7E3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A1A8-CDC0-4B83-9557-4CB1F32C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B026-A497-4E3F-A145-2EBC5462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54B4-A9BC-45E1-A37A-C1E1FC47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22312-97D9-4CBE-AF94-1E005C95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0CFD-B66F-4485-A35C-9C57A116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21C8-2E89-4A86-8EB6-6221A768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4AFB-2949-48E5-AA7C-4A0EA7B5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5356-7B2B-4C98-BC34-775AF8AE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60C2-C7AF-4509-AD94-9B45DD98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467F-5622-4068-BDA9-461D5561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DC51-64D6-4398-BB56-D45A9460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6861E-10D3-40C1-8692-494766F3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2F98-6F1E-4796-BAE2-3DF17EC5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A89A-5E1C-47A9-9503-A11D492B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55F8-5A97-4CD2-BD13-DBCE5351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82C63-59C4-460C-97EF-122B9CE4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8FDC-9151-4C5F-B6F4-6D979C60B3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65C0-DC4C-47E8-AE98-C74A18ECE9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124080" y="602784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553080" y="6027840"/>
            <a:ext cx="213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50FD-2000-4402-BC03-DA9CD8814E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763640"/>
            <a:ext cx="601992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коны и правила математической лог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115880"/>
            <a:ext cx="60199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99"/>
                </a:solidFill>
                <a:latin typeface="Arial"/>
              </a:rPr>
              <a:t>Упрощение сложных высказыв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6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105E-499C-4A5A-AE2F-4F44A63B03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836640"/>
          <a:ext cx="8208720" cy="5626080"/>
        </p:xfrm>
        <a:graphic>
          <a:graphicData uri="http://schemas.openxmlformats.org/drawingml/2006/table">
            <a:tbl>
              <a:tblPr/>
              <a:tblGrid>
                <a:gridCol w="939600"/>
                <a:gridCol w="1954440"/>
                <a:gridCol w="2109600"/>
                <a:gridCol w="3205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≡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≡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тожд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Ā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 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не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=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исключающег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ь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двойного отриц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∙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Морг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&amp;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∙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 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+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(A v 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(A+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CAFF-0881-49AD-B9E4-0C48CBC12B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189000"/>
            <a:ext cx="779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981000"/>
          <a:ext cx="8064360" cy="5184720"/>
        </p:xfrm>
        <a:graphic>
          <a:graphicData uri="http://schemas.openxmlformats.org/drawingml/2006/table">
            <a:tbl>
              <a:tblPr/>
              <a:tblGrid>
                <a:gridCol w="647640"/>
                <a:gridCol w="3349440"/>
                <a:gridCol w="2033640"/>
                <a:gridCol w="2033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A&amp;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&amp;(AvB) = Ā&amp;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∙(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= Ā∙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Ā&amp;B = Av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Ā∙B = A+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vB) vC =Av(B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&amp;C = A&amp;(B&amp;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+C=A+(B+C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∙C = A∙(B∙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ассоциа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 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C)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(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 +(A∙C) = A∙(B+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дистрибу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 = AA&amp;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A = AA∙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идемпот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B=B v AA&amp;B=B&amp;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=B+AA∙B=B∙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коммута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≡B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&amp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(Ā+B) &amp;(A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981B-8D51-4DAA-A45F-DB803AF2FF8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МОРГАН Огастес 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(Morgan Augustus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020000" y="260280"/>
            <a:ext cx="175248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55640" y="2469240"/>
            <a:ext cx="7921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рган Огастес (Августус) де (27.6.1806-18.3. 1871)-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В книге "Тригонометрия и двойная алгебра" (1849г.) развил мысль У. Гамильтона о распространении идей символической алгебры на исчисление комплексных величин. Благодаря этому комплексные величины были строго обоснованы не только геометрически, но и алгебраически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7FE3-B823-4F1E-91CC-88992AA7A7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1. Упростить выражени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∙ Y V X ∙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ользуемся распределительным зако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Times New Roman"/>
              </a:rPr>
              <a:t>Х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 </a:t>
            </a:r>
            <a:r>
              <a:rPr b="0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Y V Z ) =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Y V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вынесем общий множитель за скоб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32360" y="4508640"/>
            <a:ext cx="57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939560" y="5157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e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66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53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97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>
            <a:hlinkClick r:id="" action="ppaction://hlinkshowjump?jump=nextslide"/>
          </p:cNvPr>
          <p:cNvSpPr/>
          <p:nvPr/>
        </p:nvSpPr>
        <p:spPr>
          <a:xfrm>
            <a:off x="838836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8360" y="328464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 Y V X ∙ Y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780000" y="3284640"/>
            <a:ext cx="2881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(Y V Y 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986800" y="4869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 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302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803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303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803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803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904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404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64F5-5576-4DAE-BAEE-4ACEF7DF45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333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v B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→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 v C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20606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авимся от импликации и отрицания. Воспользуемся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¬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→B)=A&amp; ¬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тс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двойного отрицания, получи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) 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правило дистрибу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∙B) +(A∙C) = A∙(B+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м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vB)&amp;Bv(AvB)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коммута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&amp;B=B&amp;A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дистрибутивности (16).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B)&amp;Bv(AvB)&amp;C = A&amp;BvB&amp;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&amp;BvA&amp;CvB&amp;C= A&amp;BvBvA&amp;CvB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&amp;B) v(A&amp;C) = A&amp;(Bv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, т.е. вынесем за скобки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vA&amp;CvB&amp;C= B&amp; (Av1)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 (Av1) vA&amp;CvB&amp;C= 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вим местами слагаемые, сгруппируем и вынесем  В за скобки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A&amp;CvB&amp;C = B&amp; (1vC)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и получим ответ: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&amp;(1vC)vA&amp;C=B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4FAE-189D-4F56-9AC7-9A39C734A8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9640" y="692280"/>
            <a:ext cx="7993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. Закрепление изу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¬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(A→B) v (B→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A&amp;CvĀ&amp;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AvBv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492360" y="414972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¬ (A&amp;B) v ¬ (BvC)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 (A→B) v (B→A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A&amp;CvĀ&amp;C=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AvBvC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6AFD-D518-4063-BCAF-6E5021B9C4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2064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amp;¬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Z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987640" y="3860640"/>
            <a:ext cx="50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¬(X&amp;Yv ¬(X&amp;Y)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¬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 =X&amp;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24D3-0D35-4D39-86FD-54CD238C5F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Домашня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826920" y="836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те логические вы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vB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A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1V (AvB)) V ((AvC) &amp;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611280" y="3500280"/>
            <a:ext cx="3543120" cy="2554560"/>
            <a:chOff x="611280" y="3500280"/>
            <a:chExt cx="3543120" cy="2554560"/>
          </a:xfrm>
        </p:grpSpPr>
        <p:sp>
          <p:nvSpPr>
            <p:cNvPr id="153" name="AutoShape 7"/>
            <p:cNvSpPr/>
            <p:nvPr/>
          </p:nvSpPr>
          <p:spPr>
            <a:xfrm>
              <a:off x="611280" y="3500280"/>
              <a:ext cx="3543120" cy="25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1089360" y="381024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1854000" y="3504600"/>
              <a:ext cx="38268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1854000" y="431964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715120" y="391176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184760" y="493056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184760" y="5643360"/>
              <a:ext cx="38268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950120" y="5236200"/>
              <a:ext cx="381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575880" y="4625280"/>
              <a:ext cx="38196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802800" y="3606120"/>
              <a:ext cx="1051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>
              <a:off x="802800" y="3911760"/>
              <a:ext cx="286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898200" y="3606120"/>
              <a:ext cx="0" cy="15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898200" y="513396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993960" y="3911760"/>
              <a:ext cx="360" cy="19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993960" y="58474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802800" y="4421160"/>
              <a:ext cx="1050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993960" y="452268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1472040" y="3810240"/>
              <a:ext cx="381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1567440" y="533772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1567440" y="564336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2332080" y="5439240"/>
              <a:ext cx="9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2236680" y="38102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2523960" y="38102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2523960" y="40132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2236680" y="4522680"/>
              <a:ext cx="286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 flipV="1">
              <a:off x="2523960" y="421704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2523960" y="421704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 flipV="1">
              <a:off x="3288600" y="4930200"/>
              <a:ext cx="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288600" y="49305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3097800" y="41155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3288600" y="411552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3288600" y="472680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9"/>
            <p:cNvSpPr/>
            <p:nvPr/>
          </p:nvSpPr>
          <p:spPr>
            <a:xfrm>
              <a:off x="1184760" y="3911760"/>
              <a:ext cx="19152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1950120" y="3606120"/>
              <a:ext cx="19224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1"/>
            <p:cNvSpPr/>
            <p:nvPr/>
          </p:nvSpPr>
          <p:spPr>
            <a:xfrm>
              <a:off x="1950120" y="442116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2"/>
            <p:cNvSpPr/>
            <p:nvPr/>
          </p:nvSpPr>
          <p:spPr>
            <a:xfrm>
              <a:off x="2045880" y="5439240"/>
              <a:ext cx="1929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1280520" y="503208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1280520" y="5745600"/>
              <a:ext cx="1929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5"/>
            <p:cNvSpPr/>
            <p:nvPr/>
          </p:nvSpPr>
          <p:spPr>
            <a:xfrm>
              <a:off x="2810520" y="4013280"/>
              <a:ext cx="19260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6"/>
            <p:cNvSpPr/>
            <p:nvPr/>
          </p:nvSpPr>
          <p:spPr>
            <a:xfrm>
              <a:off x="3671280" y="4726800"/>
              <a:ext cx="19296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7"/>
            <p:cNvSpPr/>
            <p:nvPr/>
          </p:nvSpPr>
          <p:spPr>
            <a:xfrm>
              <a:off x="611280" y="350460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611280" y="38102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9"/>
            <p:cNvSpPr/>
            <p:nvPr/>
          </p:nvSpPr>
          <p:spPr>
            <a:xfrm>
              <a:off x="611280" y="43196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3957840" y="4828320"/>
              <a:ext cx="191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1"/>
          <p:cNvSpPr/>
          <p:nvPr/>
        </p:nvSpPr>
        <p:spPr>
          <a:xfrm>
            <a:off x="611280" y="2708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а следующая логическая схема. Упростите ее, используя минимальное количество вен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4859280" y="386064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II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 составить рас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ставлении расписания учителя высказали следующие пожелания: учитель физики хочет иметь первый и второй урок; учитель химии - первый или третий; учитель информатики — второй или третий. Предложите возможные варианты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7:50:47Z</dcterms:created>
  <dc:creator>Лида</dc:creator>
  <dc:description/>
  <dc:language>en-US</dc:language>
  <cp:lastModifiedBy>Owner</cp:lastModifiedBy>
  <dcterms:modified xsi:type="dcterms:W3CDTF">2011-03-28T22:03:27Z</dcterms:modified>
  <cp:revision>9</cp:revision>
  <dc:subject/>
  <dc:title>Законы и правила математической логики</dc:title>
</cp:coreProperties>
</file>